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7F0-302D-44FB-BCD9-ED3E7C02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B1B-0A66-4047-9842-E104E0B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B64-8422-4B9B-8598-1E70125F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C41-4C59-4729-BDFF-67A28C36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28E-57FE-4802-B455-EB0C3A12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CF9-28AC-46EF-B149-9F789E92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CB1-1B30-4F5E-8D99-91CBDB62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B22-DC12-49D5-A793-41170FD2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257-3328-4EF7-8602-430D360D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5F5-DABB-4DC1-95A7-D04F724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0138-78AF-487B-BCBA-B2F1EC1A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829F-E42A-40FB-8D62-C6B0892F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1A7F-9AEE-43C5-9971-5726B0F27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68520" y="1730160"/>
            <a:ext cx="7022880" cy="24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"/>
              </a:rPr>
              <a:t>Beyond the Basal: Examining Tex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5080" y="4551120"/>
            <a:ext cx="661500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No significant learning occurs without a significant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!" -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James Com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aking a Critical Look at the Proce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144440" y="1828800"/>
            <a:ext cx="880128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some things teachers need to consider about readabil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might a child be able to navigate a text with a readability above his/her reading le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lse do we need to consider along with readability when matching books and reader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he Achievement Ga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06400" y="2082960"/>
            <a:ext cx="8462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2005, the percentage of Caucasian 4th graders who met or exceeded state learning outcomes for reading was 78%. Only 44% of the Hispanic and 35% of African American students met or exceeded the outcomes. For eighth grade, 85% of the Caucasian students met or exceeded standards compared to 65% of Hispanic and 53% African American students (National Center for Educational Statistics, 2005)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More Stat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06400" y="2082960"/>
            <a:ext cx="8462880" cy="44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Illinois, the number of students with Limited English Proficiency has risen to over 190,000, an 80% increase in the past ten years (National Clearing House for English Language Acquisition, 2005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predominantly spoken language is Spanis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rease in non-English speaking students has classroom teachers looking for ways to teach these students in ways that are culturally 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nds of Knowled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06400" y="2082960"/>
            <a:ext cx="8462880" cy="31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ds of knowledge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ansive cognitive resources that children and their families have available that could be used in the classro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is to better match the students’ home backgrounds and literacies with the practices of 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can use the language, culture and customs of their students as a springboard for lear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dson-Billings,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ocultutal/Sociolinguistic Learning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806400" y="2082960"/>
            <a:ext cx="8462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ldren are active learn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cy practices are reflective of cul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ldren enact their social and cultural identities through lite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nguage and thought are re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 the Classroom: Beyond the Heroes and Holiday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06400" y="2082960"/>
            <a:ext cx="846288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ider Community Literac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ich literacy experiences children bring to the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tors/ interpreters, conversations,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k tales and familiar sto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exts: music, art, drama,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ooks, poems, text (pictures, characters, stories) portraying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 students’ cultural values in readings (rhythm, family li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evels of Approach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06400" y="2082960"/>
            <a:ext cx="846288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ibutions (holidays, crafts, custom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thnic Additive (multicultural themes are approached but not embedded in the curriculum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ansformation (curriculum is changed to allow perspectives of diverse cultures to be represent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cial Action (children identify social problems through literature and seek solution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ulticultural Litera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806400" y="2082960"/>
            <a:ext cx="846288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bout African Americans, Asian Americans, Native Americans, and Latinos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ooks by and about women, religious groups, regional groups, gender groups and people with disabilitie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terature that represents voices outside of the traditional canon of literature used in the classroom or that of the dominant cult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Bishop, 199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Windows and Mirror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06400" y="1405080"/>
            <a:ext cx="84628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ers can read the world around them through text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ders can learn about others and themselv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s can be windows into the lives and experiences of oth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xts can be mirrors, reflecting our own lives and experiences Reading can becomes a means of self-affirmation. Readers may seek their mirrors in book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xamining Tex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06400" y="1574640"/>
            <a:ext cx="846288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hen children cannot find themselves reflected in the books they read, or when the images they see are distorted, negative, or laughable, they learn a powerful lesson about how they are devalued in the society of which they are a part. Our classrooms need to be places where all the children from all the cultures that make up the salad bowl of American society can find their mirror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dine Sims Bishop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irrors, Windows and Sliding Glass Door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Aloud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ncess Grace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Mary Hoffm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oday’s Agenda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806400" y="2082960"/>
            <a:ext cx="8462880" cy="36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ine Children’s Lit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uss Readability and how it affects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 Text Sets and discuss how they can be used in the classro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in Inquiry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Inquiry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06400" y="2082960"/>
            <a:ext cx="846288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with a partner and fill out the Matr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your book with the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727200"/>
            <a:ext cx="7545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tructuring your Classroo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22160" y="2166840"/>
            <a:ext cx="846144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to know your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iscover your students’ home literacies (Remember, these may not be “school” literacies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easure students’ prior knowledge and interest in independent read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tructuring your Classroo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06400" y="2082960"/>
            <a:ext cx="8462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 a strong classroom librar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should have a wide variety of unleveled texts that children WANT to rea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tructuring you Classroo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806400" y="2082960"/>
            <a:ext cx="84628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students the self-selection proc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cuss how people go about selecting a boo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a “just right” book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do you know a book is right for you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o you do when you pick a just “right book”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o you do when a book isn’t a “just right book”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BOOKMAT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06400" y="1320840"/>
            <a:ext cx="84628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b200"/>
                </a:solidFill>
                <a:uFillTx/>
                <a:latin typeface="Arial"/>
              </a:rPr>
              <a:t>Lesson Pla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B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ook lengt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dinary Languag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O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K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nowledge Prior to the boo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nageable Tex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eal to gen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pic Appropriatenes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 Interes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hoosing a Text Se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806400" y="1320840"/>
            <a:ext cx="84628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purpose of the lesson for the text se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oose a theme or strand for the text set that relates to the the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ider what type of texts would be most appropriate to the purpose of the less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earch and gather texts- remember to use other professionals as a resource and to truncate websit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ember that texts can be defined broad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5960" y="727200"/>
            <a:ext cx="821196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quiry Proce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06400" y="1574640"/>
            <a:ext cx="8801280" cy="38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 based on student curiosity, questions, 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 deeply into complex, authentic topics that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responsibility with peer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roficient reader/thinker research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s on multigenre, multimedia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beyond fact-finding to synthesizing and applying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ly using knowledge: take action, share, g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kids’ learning to state and district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06400" y="2082960"/>
            <a:ext cx="84628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elines are posted on the </a:t>
            </a:r>
            <a:r>
              <a:rPr b="0" lang="en-US" sz="3600" spc="-1" strike="noStrike" u="sng">
                <a:solidFill>
                  <a:srgbClr val="00b200"/>
                </a:solidFill>
                <a:uFillTx/>
                <a:latin typeface="Arial"/>
              </a:rPr>
              <a:t>Wi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Goal for Tod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a topic of Inqui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together grou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8880"/>
            <a:ext cx="803916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Level and Readability- Think/Pair/Sh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806400" y="2082960"/>
            <a:ext cx="8462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es this mean to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s it used in your classroom? Your schoo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used to determine readability? (What tools do you know of and use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Your School and Classroo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806400" y="2082960"/>
            <a:ext cx="846288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atters: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hildren need texts they can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de where you and your school fall in terms of texts and text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 where you think you fall in each of the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Readabilit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82680" y="1488960"/>
            <a:ext cx="939456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Readability -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difficulty level of the book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 selection in terms of grade level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Why is it important to know this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s need to help children select books that fall in their reading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s will assess students to determine their reading leve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ers will determine the reading level of a text in order to match appropriate level books to the stud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Readability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2680" y="1488960"/>
            <a:ext cx="905508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ability is based on the following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 reading material becomes more difficult, the length of the words tend to become longe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nce reading material becomes more difficult according to grade level, it is possible to develop a scale which will reflect thi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eveling Tex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82680" y="1320840"/>
            <a:ext cx="922500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Arial"/>
              </a:rPr>
              <a:t>Smog Readability S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d Read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Arial"/>
              </a:rPr>
              <a:t>Online Resour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xile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 from 200L to 1700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many districts around the country and has been around for about 5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are assessed and given an “lexile sco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b2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Arial"/>
              </a:rPr>
              <a:t>Data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s the lexile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Font typeface="Courier New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6400" y="219240"/>
            <a:ext cx="75456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rticle Discuss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806400" y="2082960"/>
            <a:ext cx="84628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groups of 3, discuss th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ally Read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t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he discussion guide to record your thou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prepared for a whole group sh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754560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Turn and Tal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06400" y="2082960"/>
            <a:ext cx="84628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entering a place where you have never been, all by yourself. What do you do, who or what do you look for or notice? Describe your feelings to your neighb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Tami</cp:lastModifiedBy>
  <dcterms:modified xsi:type="dcterms:W3CDTF">2010-06-24T14:21:44Z</dcterms:modified>
  <cp:revision>1</cp:revision>
  <dc:subject/>
  <dc:title>PowerPoint Presentation</dc:title>
</cp:coreProperties>
</file>